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064-F8B2-4BF4-9E3D-96F51C00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3E0-B916-4457-9DBF-03AE292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218-5F83-4F9E-B769-47C51444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36B-5FA2-42C6-B361-A9887F1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17FA-45A0-43E8-8941-8C7708A8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16D7-1CC4-4DD3-80B6-B37D46E9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C728-0C8C-4B8E-B759-AB51AC48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A5B7-3DC0-448B-8EA6-3A245CD8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4CB1-A0DF-4156-BFC6-26A58240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6812-4743-4188-A8D8-CC04BE5E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BE24-1662-4AB4-B94E-675845C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CC0-01D9-4971-A91B-E5C6026D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142A-5E1F-4B79-9731-1B73B3F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EFF8-E95B-448B-B343-22F31BE5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6A27-B601-4815-9087-62F9189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2D55-5231-4939-ACB2-3576DF10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6EC5-2A95-4AED-857E-360EA2C8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784-C71B-4924-A63B-3D4A5BEF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F47-A797-4067-A9D2-9093C375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327-DF96-4E0E-9C64-88C532F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1CF-8659-40E6-B46F-7EB71EAF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C75-7D54-4B3D-8EC3-56ABBA45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A08-34E8-4D8C-90C5-53FC472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E38-5D2B-44D7-AF80-1F43879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E46C-55EB-453B-B9DF-9AF5E30B7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B042-A7AD-4284-A38E-8F33DED77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 we will learn the different responsibilities of the director, producer, cinematographer, and production assis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ponsibilities on the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 Not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r-Must deliver the “product” (the completed film) to the Executive Producer. They must also make sure the director has everything they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or-Must make the “product” and deliver it to the Produ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nematographer-Must film/tape the “product” to the liking of the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 Assistant-Must help all of the above with all of their goals and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/Qui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movie calls for an aerial shot from a helicopter and the helicopter is late, it’s up to a ________ to call the airport and get it t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cinematographer is spending too much time setting up for a shot, it’s the ______’s job to tell them to speed up.  If they don’t, the _______ will have to get invol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/Quiz (Continued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producer, director, cinematographer, or any other crew member needs anything on or away from the set, they can ask a __________  ___________ 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28T13:09:04Z</dcterms:modified>
  <cp:revision>86</cp:revision>
  <dc:subject/>
  <dc:title>Legacy Life Skills</dc:title>
</cp:coreProperties>
</file>